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DA3-8729-4BC4-8DB2-8DDDF5C3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DCF-3BAC-4DF9-AFCA-54B32FE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7E879-1348-42CE-90EE-9575311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05704-99F1-4196-90F0-A33C111E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B7362-E99E-4CB9-A2CA-1F1E797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1D241-5478-41BE-A654-33EA519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A0E41-35A9-4B52-9D7E-5318BDE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E214-A8E7-486A-BEF9-73A4B09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02A8A-6113-4FB3-8E5E-AED9EF9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5F50-2AAF-4B3B-BB9D-9D623E2A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07EE-2F18-4756-ACA3-4D5AEC5F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25650-77B4-49F3-84F8-BE0A2343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34A-DA0B-44EE-A399-DC67F45A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7899F-C125-4ABA-9D51-B01D72F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3D042-77B1-47FF-BE6D-4CA1B04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93298-9949-4854-9BDA-1F0C42E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F3DEA-7C6D-43C0-9B48-4ABCCD1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747D-C6B7-4755-9917-D9C10E5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84C4F-3343-445E-9D64-23FEA92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C92DB-6027-4343-AF71-FAE2823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B5788-89FA-4413-AC32-8B11DEB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C8785-866E-4FF4-B5AA-90CC904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8BE10-11D4-4C9E-960F-29B0A0F7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F04-C212-416E-A637-7E476E76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0DC1E-4E96-4A1E-B61B-1C8064D8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70EA5-E5F4-493B-89CC-14171ECD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CE058-14C4-4D08-9280-816546F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0CBDC-1C64-4398-A89B-DD9B018B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2E7A-4ACD-43E9-8147-36D04C4D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C1955-2E4F-4622-85C0-2496F92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E4ED4-4611-4C0E-BFBC-EA91883B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17A64-56ED-4E77-9D1A-5E9DA66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84D68-A328-4DAB-B5F8-662DCF0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BB717-D5A7-463C-A641-0700478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3EB6-0952-4E9F-AA58-2F80FD80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C2CB-329E-4F14-96F2-B06C144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3DB17-2147-40A9-B161-76D3A341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7A4B-BF29-4410-B4F8-00A24620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225B5-E72E-4F19-BADF-58C768C7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BC411-7575-4BBB-8E54-598C8AC6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114F-C285-45BB-9436-28B3A28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CB7C7-B0A0-4B48-A770-DE251CF7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D4885-BF92-4378-8107-63F5AF5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73BD-A2CC-4216-9796-DB8E8678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8255A-6F6F-4A6E-A7E9-7DFADEEE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91DF-63FA-4790-9665-EDDA2AA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6F18B-1B0E-4A34-8846-27BE6C7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33916-2969-4039-9C02-B008FAF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6295C-3E3E-4176-B71C-829549E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42AA4-B029-46F0-8F84-E03E5118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F4DEF-A379-4AF0-960A-9699CE80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058A8-656B-4A4A-B7FF-7AE9546D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2BC74-090D-4061-9F74-3E67A99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35BAF-9819-44AD-82DF-8F192BF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3752A-094E-4124-9DF9-D8973A0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A8390-6F63-4562-AA3B-FA6B47D9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B142F-C21B-4AA5-A77F-7B609B6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EC521-AA6E-4520-9373-46F45B3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2EDAF-4387-4FE0-A423-3D7A5E4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E034-816F-409E-AA8C-B4B8BBF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906B6-1911-4115-9EDF-67041A6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05265-6D55-44B5-9CF9-2F1884E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0E75C-CC19-46C0-92B8-16CCC658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C0F9B-443D-45DD-BDAA-EF8D90FA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7791D-C2F3-4FD3-8974-4C6C9FBB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B5ABD-B24F-4CA4-9A12-318CD43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E9A49-76D4-40C4-9E73-D83E3E5D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71B97-CACE-4902-AF8A-DB3A15B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B736C-8C43-491F-8F5C-09C4802F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77F74-1075-4714-A219-C9DA279B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F1AED-4BB7-43C7-B61E-F6DD6AD4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C68DC-679B-444A-B4A4-C3D01D8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EE6F8-339B-4609-8104-391CBD2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9AE3D-AB48-4725-85D1-2D3D8EE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83E66-0BEA-454E-BD83-6755383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AAAFE-939D-4BFE-9D64-C513BB85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E46C4-7CF6-44DA-89B8-9C8E2DAA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D551F-8DCD-482D-9DC3-B3B22462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B81CB-1ACD-4CBE-9F48-12305714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2EE4D-418E-4F99-A047-A61BC8A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CE0AE-27E0-4244-B0E0-7F0EF131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D45A7-267F-4652-9F36-EF3BD3F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BA6F8-6202-49F8-B23B-E408DB1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C5225-F5E5-4261-8FFF-475B6CF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F38BA-4727-4546-AF9E-16E7754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76075-D2BD-4D5F-80DA-DC7B51D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49489-9877-422F-A98E-7F42C33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7FF4C-F10B-43D2-9E4A-38135F3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63F02-1045-4036-AA67-BAE62C60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AEF72-EBD8-498E-9B57-4D5E40B9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B4200-6AFB-48B3-B42A-8D694A82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1E8C4-5907-484F-BF6A-9C5A5C6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53512-DF95-47AF-BF68-9D936C5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725C0-2A16-47F8-BE1A-91B3686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D9525-D621-42C3-8FF5-AE7504E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85188-4938-4447-8121-83F5CB73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1D978-AED8-49E9-AB5C-4D970B0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2AB0F-36B7-4F8B-8542-1AE0283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FFFBB-72EC-4E5D-B085-A27767B5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B8A7C-16B6-4B1C-8D62-B152295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ADAC-DEF9-484B-BA23-C138938C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AA6B4-FC1A-44A3-9AA7-039F737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FECCD-4530-4ED8-A7ED-04C05A2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609D1-A39C-403C-A844-955E72FE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89A77-9FB1-4736-940E-FFBC53B0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89942-7272-4BAB-BBF9-AB76A89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A9D90-3599-43A5-B82F-6C341738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24278-99C2-41A6-B338-C58B5FC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262C4-163A-42C1-87F2-A29539C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85A8C-70DF-463F-B683-0357A8A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88FFC-59B3-402D-BA8C-0EC5549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9DD-9DCF-4376-B0C0-56216450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CD70D-59D2-4185-8F8D-1E92D05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EBB00-1044-4450-8ACD-B7B2A4E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2ACF3-FA5C-4BF1-A1A6-433225D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15162-3FE3-4A90-BE9D-40FD8504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B08B5-C39E-4F00-AD11-4F6B924C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1DFA1-A466-4DE5-BFDE-E9D77E03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FB8A-BD21-4702-9A2A-B422BA1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074E3-B3CB-4EB0-B5E9-F53D301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12FC-C187-4D32-AAB5-8EE10996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12AA-2492-431A-B3E8-F0C5AB5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7C16-A28B-4F5A-BC93-5498D8CD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8252-D217-40C9-BF12-D4E4CD8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9870-8677-4373-A665-D8EABCD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BADD-C90F-4AC9-81D1-E4D09B1D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3FC1-8602-47A5-A2A5-00941967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5FD-C271-40AF-9FCA-AF37AF1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E47E-2221-4732-9781-4DD356E7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5BBF-1F66-4C98-80B6-5532BD2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E21F-1548-4BAC-A0CC-F34A891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9E16-D33E-46EF-B345-DFA7E6A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9A0F-7514-4C12-B28A-4C6FAB67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87DC-BF93-47CD-A5B8-B9695B69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41E2-BD7D-400B-B0A5-7DCACCAF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F134-D7B4-465A-807C-72124914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4F81-4E22-4C8A-BD99-2D223C6A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4E00-34E5-4259-8663-C4D465A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9E8-BC16-4BDC-BFF2-9B5C3A2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7457-2C30-4180-B851-2D3F3B7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7CE7-D53C-4A5C-BF94-5B7AF8E0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1E44-935D-4E3C-8975-C9C1A461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FFBF-AC29-4598-B99C-D0556F3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C818-8D0B-4737-AED1-B7CCE4F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5701-933D-4151-903B-17EAD4A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A0C1-1518-4F63-A312-A741DEF7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C2694-0F00-49A0-9372-1499455D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3BDE-D3D0-48C3-A390-A98CEE39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967D-FC88-4864-86A8-AECB1941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394-8E04-4E31-8DA2-36539A8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5ED0-0CDE-4EA9-94FA-BF7CA3F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8731-0F8C-4C68-BAF2-17D1A19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2643-297E-4B10-9DC6-03DB980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43FB-084B-424B-82E4-69D2A5C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F4E5-9DF6-4A34-9F17-F3E081A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8478-4EC9-4EEA-8870-FE1C184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1203-08C7-4411-BF87-A51277D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0E6C-120A-43B9-90F3-16AF3F7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AB28-DF2B-49FD-9629-EE612A9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0CF1-6FC8-43DF-829A-CE4DCD42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446-5285-41D5-ABF5-4591968D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07DD-917F-4ED8-96C5-8EB2C5B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8954-56C9-4843-A3AF-62B39027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C54D-3E27-4E13-A2CD-CC66CB40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FD44-E1F6-48EA-BDE8-0A5B62C8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8DA4-1FD9-41A2-9051-692EBA0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2B99-ADC1-41D6-A085-E04264F0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AA4D-FF73-4116-8B23-DD997012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7989-6F98-42CC-829D-48CDDFF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E3B0-E51A-4698-B42B-CD1FA91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084CB-30A3-41F7-B535-76F27E3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A94-F3D8-40F2-B4C2-3DEFBF4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912F-DBA0-4AB1-A1B3-43824C48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2BFC-B528-4DAB-9D13-CC0B4FFA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56041-BA12-43C5-B561-390F5F92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A184-9A98-41FD-B068-71F09D1A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E1A4-B8C6-492D-A6EF-13A9741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FE64-2192-4A2B-8FF5-83469BB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7198-C27A-4BB4-96FE-93FD5B9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662A-11DE-4B1C-A777-087AE4E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FD1D-DBAA-4F12-99F9-44E64A97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F904-531F-4D81-B77B-A368D9BD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07D-66EB-4B5D-AE69-D4F82AF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1C64-18A4-4F53-888E-4131412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87D9-38B9-4649-B176-DAF1537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819E6-9A6D-438B-B616-74920DD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7047-E937-463E-BCA3-A05C3A70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3FF27-6EE6-4F81-9E41-FD7165DB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B3CD9-5032-4A1D-9F58-1D9F68CD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4B98-F347-4C12-AC37-F038B3BD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D4254-7181-4117-B65E-81EB9A8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8431-36B7-4B11-A58A-8CCF792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BDB2-C130-473B-81AA-77D3B479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F68-C2A6-49A6-8C4D-32496F7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7DE71-00E2-4411-8FC1-8E85D37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A9E7-922D-4B54-B004-23A7F06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EE47-43D6-4256-A757-89D2BF5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CBE2-083D-420C-AF01-9D36CA1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51A5-8C5B-4A88-9965-223D832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FD4E-61DE-4018-B98A-93644D89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1BF9A-40AF-44CC-AD4B-0F647A40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1D4E2-9214-4148-B5F8-903A9D5C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0FEF7-1DAC-4F92-8838-E1707AE9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3C26-0048-4CF1-A120-9476EEC6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498B-8136-4620-AA72-A91A51C0E5A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379-8401-4A57-8A0E-743E389461C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B39-237C-40CC-92A9-896520EA41C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2FC-39ED-466F-B953-310C8A1CC3E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5936-AC20-45A2-AA68-02C75F18624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977-ED66-499B-8CC2-A68EC2005CB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7430-0803-4C5E-8B17-50F0C643131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1000-EDAC-480E-A2E6-1BDA7AF65C7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862-79E9-4C1E-A4C7-6E903A75224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E7A0-4B5D-45C7-92CF-025B0CCE679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1F7-B607-409A-9392-9F2D0639214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C12-DE21-4A31-B3E1-E47A5FDEFB7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9EE-9D16-4BE7-A9BF-05D7BE56C4B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1A8-D790-4C6E-8916-A492BCC284C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64C6-65DE-416E-A740-A632D2336D2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02A-638B-422B-BA00-27F4DFB6B9C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9D4-5DAE-4972-908F-CAB0E428638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2F7-7152-40C6-8ED6-F3334EF7AD3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757-8A2D-4382-BE29-54C63954AA6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9AC2-C86F-4CE1-99E8-B8C4C26DC93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820-482E-47AC-B25D-0291F57FA6B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E9E1-634D-4C99-B03A-D217A641006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1FD8-F5D8-4EF5-9751-68B4460232C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8A5A-7CEE-4108-9439-34A9D06C91B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532-9CF8-4386-9352-25107C4FE09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A7D-144D-42FC-8039-E7E9FA1580F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CFF-CA64-413E-8583-6C8927BF1FC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9053-7791-440C-BEB2-6062B4BFE93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393-BB31-4BB4-A8B8-0735FC24B60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FDE-4623-40EB-A51B-561EE4CA76E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FD0-F13A-4395-AF05-C508103110B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D769-9182-4C46-94E8-BBF9EA38F75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4BB-F34E-4DE6-B2C5-A48167664B0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9F8-F187-4CF0-BA4C-CC4ADE7B391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irst In, First Out Inventory (FIFO)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9040" y="1828440"/>
            <a:ext cx="7583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the price of merchandise purchased first to calculate the cost merchandise sold firs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Title 3"/>
          <p:cNvSpPr/>
          <p:nvPr/>
        </p:nvSpPr>
        <p:spPr>
          <a:xfrm>
            <a:off x="874800" y="3200400"/>
            <a:ext cx="7583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Last In, First Out Inventory (LIF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Content Placeholder 4"/>
          <p:cNvSpPr/>
          <p:nvPr/>
        </p:nvSpPr>
        <p:spPr>
          <a:xfrm>
            <a:off x="874800" y="4648320"/>
            <a:ext cx="758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Using the price of merchandise purchased last to calculate the cost merchandise sold fir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FIRST-IN, FIRST-OUT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9" name="Picture 4" descr="D:\C21 PowerPoint\Multi_Journal\art for blue\Ch22\Ch22-02a.jpg"/>
          <p:cNvPicPr/>
          <p:nvPr/>
        </p:nvPicPr>
        <p:blipFill>
          <a:blip r:embed="rId1"/>
          <a:srcRect l="0" t="19320" r="0" b="53612"/>
          <a:stretch/>
        </p:blipFill>
        <p:spPr>
          <a:xfrm>
            <a:off x="457200" y="1706400"/>
            <a:ext cx="8001000" cy="2392560"/>
          </a:xfrm>
          <a:prstGeom prst="rect">
            <a:avLst/>
          </a:prstGeom>
          <a:ln w="0">
            <a:noFill/>
          </a:ln>
        </p:spPr>
      </p:pic>
      <p:sp>
        <p:nvSpPr>
          <p:cNvPr id="740" name="Oval 5"/>
          <p:cNvSpPr/>
          <p:nvPr/>
        </p:nvSpPr>
        <p:spPr>
          <a:xfrm>
            <a:off x="830592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6553080" y="37638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6781680" y="2697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8399520" y="3154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9"/>
          <p:cNvSpPr/>
          <p:nvPr/>
        </p:nvSpPr>
        <p:spPr>
          <a:xfrm>
            <a:off x="6400800" y="31543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514440" y="494352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Needed to Equal the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514440" y="4205160"/>
            <a:ext cx="35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514440" y="5307120"/>
            <a:ext cx="39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Price Times Fifo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514440" y="4570560"/>
            <a:ext cx="53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from the Most Recent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514440" y="566892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Fif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74440" y="45720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LAST-IN, FIRST-OUT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2" name="Picture 4" descr="D:\C21 PowerPoint\Multi_Journal\art for blue\Ch22\Ch22-02b.jpg"/>
          <p:cNvPicPr/>
          <p:nvPr/>
        </p:nvPicPr>
        <p:blipFill>
          <a:blip r:embed="rId1"/>
          <a:srcRect l="0" t="0" r="0" b="67964"/>
          <a:stretch/>
        </p:blipFill>
        <p:spPr>
          <a:xfrm>
            <a:off x="457200" y="170640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753" name="Oval 5"/>
          <p:cNvSpPr/>
          <p:nvPr/>
        </p:nvSpPr>
        <p:spPr>
          <a:xfrm>
            <a:off x="8610480" y="269712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6934320" y="3722760"/>
            <a:ext cx="30456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7"/>
          <p:cNvSpPr/>
          <p:nvPr/>
        </p:nvSpPr>
        <p:spPr>
          <a:xfrm>
            <a:off x="7051680" y="269712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8"/>
          <p:cNvSpPr/>
          <p:nvPr/>
        </p:nvSpPr>
        <p:spPr>
          <a:xfrm>
            <a:off x="7139160" y="306072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9"/>
          <p:cNvSpPr/>
          <p:nvPr/>
        </p:nvSpPr>
        <p:spPr>
          <a:xfrm>
            <a:off x="6975360" y="235728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514440" y="49435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from the Earliest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514440" y="4205160"/>
            <a:ext cx="62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514440" y="530712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 Needed to Equal the Total Units on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514440" y="4570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ning Inventory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514440" y="5668920"/>
            <a:ext cx="74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Price Times Lifo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5"/>
          <p:cNvSpPr/>
          <p:nvPr/>
        </p:nvSpPr>
        <p:spPr>
          <a:xfrm>
            <a:off x="8610480" y="372276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515880" y="6032520"/>
            <a:ext cx="74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if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7344360" y="6734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EIGHTED-AVERAGE INVENTORY COSTING METHO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7" name="Picture 5" descr="D:\C21 PowerPoint\Multi_Journal\art for blue\Ch22\Ch22-02c.jpg"/>
          <p:cNvPicPr/>
          <p:nvPr/>
        </p:nvPicPr>
        <p:blipFill>
          <a:blip r:embed="rId1"/>
          <a:srcRect l="0" t="0" r="0" b="41002"/>
          <a:stretch/>
        </p:blipFill>
        <p:spPr>
          <a:xfrm>
            <a:off x="380880" y="1782720"/>
            <a:ext cx="6400800" cy="4594320"/>
          </a:xfrm>
          <a:prstGeom prst="rect">
            <a:avLst/>
          </a:prstGeom>
          <a:ln w="0">
            <a:noFill/>
          </a:ln>
        </p:spPr>
      </p:pic>
      <p:sp>
        <p:nvSpPr>
          <p:cNvPr id="768" name="Oval 8"/>
          <p:cNvSpPr/>
          <p:nvPr/>
        </p:nvSpPr>
        <p:spPr>
          <a:xfrm>
            <a:off x="5105520" y="38401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858000" y="38386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of End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6858000" y="19350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otal Cost of Inventor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6858000" y="290844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ighted-Average Price per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6248520" y="56689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1"/>
          <p:cNvSpPr/>
          <p:nvPr/>
        </p:nvSpPr>
        <p:spPr>
          <a:xfrm>
            <a:off x="6019920" y="47545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1b3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7268400" y="681120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ost of Merchandise Sold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TextBox 2"/>
          <p:cNvSpPr/>
          <p:nvPr/>
        </p:nvSpPr>
        <p:spPr>
          <a:xfrm>
            <a:off x="685800" y="2286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erchandise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Box 3"/>
          <p:cNvSpPr/>
          <p:nvPr/>
        </p:nvSpPr>
        <p:spPr>
          <a:xfrm>
            <a:off x="2666880" y="2362320"/>
            <a:ext cx="5335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4"/>
          <p:cNvSpPr/>
          <p:nvPr/>
        </p:nvSpPr>
        <p:spPr>
          <a:xfrm>
            <a:off x="320040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IFO, LIFO, Weighted Av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5"/>
          <p:cNvSpPr/>
          <p:nvPr/>
        </p:nvSpPr>
        <p:spPr>
          <a:xfrm>
            <a:off x="5794920" y="2475000"/>
            <a:ext cx="546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6585120" y="228600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erchandise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OMPARISON OF INVENTORY METHOD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2" name="Picture 4" descr="D:\C21 PowerPoint\Multi_Journal\art for blue\Ch22\Ch22-02d.jpg"/>
          <p:cNvPicPr/>
          <p:nvPr/>
        </p:nvPicPr>
        <p:blipFill>
          <a:blip r:embed="rId1"/>
          <a:srcRect l="10613" t="14599" r="0" b="51221"/>
          <a:stretch/>
        </p:blipFill>
        <p:spPr>
          <a:xfrm>
            <a:off x="457200" y="1708200"/>
            <a:ext cx="8229600" cy="33973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2-2, page 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4"/>
          <p:cNvSpPr/>
          <p:nvPr/>
        </p:nvSpPr>
        <p:spPr>
          <a:xfrm>
            <a:off x="562680" y="548496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Make sure the same method is used for each fisca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36:31Z</dcterms:created>
  <dc:creator>Mary Colleen McLaughlin</dc:creator>
  <dc:description/>
  <dc:language>en-US</dc:language>
  <cp:lastModifiedBy>David Combs</cp:lastModifiedBy>
  <dcterms:modified xsi:type="dcterms:W3CDTF">2011-10-30T20:56:10Z</dcterms:modified>
  <cp:revision>66</cp:revision>
  <dc:subject/>
  <dc:title>ADJUSTING ENTRY FOR SUPPLIES</dc:title>
</cp:coreProperties>
</file>